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74D-C1B8-46AB-B69B-71931190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DF0-5C9E-479D-819C-B38C07C7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564-0179-4196-867C-8B5D9BB5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0F3-FADD-42FF-B478-757B8A71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A538-0742-459D-9970-72057E70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09C-51C0-46D2-B41B-AF9A320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0F05-0D7C-4C18-B4CA-B73D960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AA7-8B2B-40D4-855A-8418574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4B0-CB55-4658-9284-7E81A057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10CC-1AB5-4FB5-9A80-A97E01EA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C493-B1E7-4F2D-8B70-0BC8227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CC4-AF03-4107-91C6-A1640949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A11D-545C-469A-841F-BE23C5F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12F4-3AEB-49D0-BB39-1AE0C03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D5FF-05E1-4B56-93AC-AAD95558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E5A-97A0-4697-ADB9-7E071834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4760-AE7A-4D31-A503-D826486B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E13-F6E1-4119-A8A3-EF727E53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219-5020-4A2A-894D-ED9AC8D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B9A-7377-434A-98D2-C54AD817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0FA-E36B-46B3-B47D-157F2A36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F51-3871-4B33-AF2E-4E35ACA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9C5-8912-4BA3-8FE5-A6638AA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89B-830D-4F47-957A-9C64511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phing Relationship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040" y="41144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ircles and squa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a picture of four different size circles and four different size squa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867280" y="3429000"/>
            <a:ext cx="2438640" cy="2438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val 5"/>
          <p:cNvSpPr/>
          <p:nvPr/>
        </p:nvSpPr>
        <p:spPr>
          <a:xfrm>
            <a:off x="6215040" y="4643280"/>
            <a:ext cx="990720" cy="914400"/>
          </a:xfrm>
          <a:prstGeom prst="ellipse">
            <a:avLst/>
          </a:prstGeom>
          <a:solidFill>
            <a:srgbClr val="ff7c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7"/>
          <p:cNvSpPr/>
          <p:nvPr/>
        </p:nvSpPr>
        <p:spPr>
          <a:xfrm>
            <a:off x="6286680" y="3143160"/>
            <a:ext cx="1523880" cy="1371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43000" y="3733920"/>
            <a:ext cx="2286000" cy="20574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85880" y="4143240"/>
            <a:ext cx="838080" cy="8384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500120" y="4643280"/>
            <a:ext cx="1676520" cy="1524240"/>
          </a:xfrm>
          <a:prstGeom prst="rect">
            <a:avLst/>
          </a:prstGeom>
          <a:solidFill>
            <a:srgbClr val="ff7c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857680" y="3929040"/>
            <a:ext cx="457200" cy="4572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7715160" y="4714920"/>
            <a:ext cx="381240" cy="38088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ta for Circles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measure each radius and record i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ircles:  radius, circumference and ar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2786040"/>
          <a:ext cx="6095880" cy="352116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730520"/>
                <a:gridCol w="1485720"/>
              </a:tblGrid>
              <a:tr h="731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irc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adius of circle 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ircumf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 = 2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ea       A =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ta for Squares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measure the side length of each and record i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length, perimeter and area of the squa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2571840"/>
          <a:ext cx="6095880" cy="3517920"/>
        </p:xfrm>
        <a:graphic>
          <a:graphicData uri="http://schemas.openxmlformats.org/drawingml/2006/table">
            <a:tbl>
              <a:tblPr/>
              <a:tblGrid>
                <a:gridCol w="1062000"/>
                <a:gridCol w="1550880"/>
                <a:gridCol w="1892520"/>
                <a:gridCol w="1590480"/>
              </a:tblGrid>
              <a:tr h="731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qu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ide Length 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erimeter        P = 4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ea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 = L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phing The In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radius to the circumference of the circ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radius to the area of the circles on the same gra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maybe able to use a graphics calculator for this part, or your teacher will provide graph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raphing The In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side to the perimeter of the squa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 the relationship of the side to the area of the squares on the same gra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maybe able to use a graphics calculator for this part, or your teacher will provide graph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Did You Observ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23:56:02Z</dcterms:created>
  <dc:creator>C.U.S.D.</dc:creator>
  <dc:description/>
  <dc:language>en-US</dc:language>
  <cp:lastModifiedBy>Carol Moule</cp:lastModifiedBy>
  <dcterms:modified xsi:type="dcterms:W3CDTF">2010-08-08T05:53:35Z</dcterms:modified>
  <cp:revision>5</cp:revision>
  <dc:subject/>
  <dc:title>Graphing Relationships</dc:title>
</cp:coreProperties>
</file>